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5C5-465A-4D5E-8D52-52E3AA4B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64F-4DC7-4029-8D77-393F2DF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7F8-AB33-4C28-8A03-AC2B783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E02-4A06-4E72-B1C2-8B198B34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D14-2DC8-4CED-B075-F89ABAD3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7803-C732-4655-9B13-224B1B3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A665-6751-42F4-80FB-1478A27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D257-A85B-4973-B32C-6FEE858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8684-AE6D-415A-9816-68D396A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2AD2-E4D0-49B9-966B-80C56029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A261-C754-44B3-8EE4-45CADF18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53B-9D16-401D-B82D-118AC39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6F9-EE96-4DBC-86CB-D5E1D7A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DF31-4265-4EFF-8DBD-ED2E024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F83-210F-4C45-B346-3C071124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0EEE-2042-458A-BCBD-E258349E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F1B-4339-43B2-AFB7-A198E9BE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33F-F5C4-4914-9A4C-BC5BA5D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AC5-8C4F-4BC2-8B07-A9D0EF6D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1FC-B2BC-45E6-A9EF-905F343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70B-5F33-4A9D-A5DF-DB0A21D4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318-CCF6-457B-9FCE-13C3394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B0C-BA5C-42D0-BCDC-15E8B5E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3CF-7D02-43B9-ADBB-AE2B08E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57EF-0D72-416F-BC59-F1E2723013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D8C9-A695-48E3-B882-A7938D5D98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Il Personal Compute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ollegamento - Port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la parte posteriore dell’unità centrale sono disposte le porte per il collegamento alle perifer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rese corren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in/out): linee d’ingresso per l’unità centrale e di uscita verso il vid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tastier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in genere con un connettore ton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orta parallel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per il cavo della stampa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orte seriali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dispositivi diversi (es. mouse)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ne esistono a 9 o 25 </a:t>
            </a: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pin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sottili spinotti metallic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orta vide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per il collegamento al moni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connettore di re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collegamento ad una rete loca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audio in/ou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collegamento a microfoni, casse, cuff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orta midi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collegamento joystick o tasiere mi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orta USB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nuova, molto veloce, diverse periferic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lassi di PC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Deskto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con il video ed il case dell’unità centrale poggiabili su scriv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Tow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unità centrale a sviluppo verticale che può stare sulla scrivania (mini-tower) o sul pav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Portati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notebook o laptop): leggeri, da portare in una valigetta, prestazioni paragonabili ai precedenti, costi superiori (per la miniaturizzaz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Palma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palmtop): stanno nel palmo di una mano (come i databank), ma sono dei veri e propri computer con idonei </a:t>
            </a:r>
            <a:r>
              <a:rPr b="0" i="1" lang="it-IT" sz="2400" spc="-1" strike="noStrike">
                <a:solidFill>
                  <a:srgbClr val="808000"/>
                </a:solidFill>
                <a:latin typeface="Tahoma"/>
              </a:rPr>
              <a:t>sistemi operativ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egg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Unità Central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ose componenti elettroniche e non sono assemblate nell’UC per garantire tutte le funzion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Tahoma"/>
              </a:rPr>
              <a:t>motherboar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o scheda-madre): circuito stampato rettangolare su cui si innestano tutte le altre componenti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processor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memori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circuiti di controll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e memorie di massa (disco fisso, floppy disk, CD-ROM), </a:t>
            </a: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schede audi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a da tramite nello scambio delle informazioni, anche con le periferiche esterne (tramite appositi circuiti detti </a:t>
            </a:r>
            <a:r>
              <a:rPr b="1" lang="it-IT" sz="2400" spc="-1" strike="noStrike">
                <a:solidFill>
                  <a:srgbClr val="808000"/>
                </a:solidFill>
                <a:latin typeface="Tahoma"/>
              </a:rPr>
              <a:t>controll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828800"/>
            <a:ext cx="8153280" cy="4648320"/>
          </a:xfrm>
          <a:prstGeom prst="rect">
            <a:avLst/>
          </a:prstGeom>
          <a:solidFill>
            <a:srgbClr val="006600"/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3505680"/>
            <a:ext cx="7696080" cy="837360"/>
            <a:chOff x="685800" y="3505680"/>
            <a:chExt cx="7696080" cy="8373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4038480"/>
              <a:ext cx="2133000" cy="304560"/>
              <a:chOff x="5562720" y="4038480"/>
              <a:chExt cx="2133000" cy="3045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638680" y="4038480"/>
                <a:ext cx="1981440" cy="228600"/>
                <a:chOff x="5638680" y="4038480"/>
                <a:chExt cx="1981440" cy="2286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638680" y="4038480"/>
                  <a:ext cx="152640" cy="2286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79132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467480" y="4038480"/>
                  <a:ext cx="152640" cy="2286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562720" y="4038480"/>
                <a:ext cx="2133000" cy="304560"/>
                <a:chOff x="5562720" y="4038480"/>
                <a:chExt cx="2133000" cy="30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562720" y="4038480"/>
                  <a:ext cx="164160" cy="30456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26880" y="4343040"/>
                  <a:ext cx="180432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531560" y="4038480"/>
                  <a:ext cx="164160" cy="30456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715000" y="4038480"/>
                <a:ext cx="1828080" cy="152640"/>
                <a:chOff x="5715000" y="4038480"/>
                <a:chExt cx="1828080" cy="1526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715000" y="4038480"/>
                  <a:ext cx="140760" cy="1526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55760" y="4191120"/>
                  <a:ext cx="154692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7402320" y="4038480"/>
                  <a:ext cx="140760" cy="1526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685800" y="3733920"/>
              <a:ext cx="7696080" cy="304560"/>
              <a:chOff x="685800" y="3733920"/>
              <a:chExt cx="7696080" cy="304560"/>
            </a:xfrm>
          </p:grpSpPr>
          <p:sp>
            <p:nvSpPr>
              <p:cNvPr id="168" name=""/>
              <p:cNvSpPr/>
              <p:nvPr/>
            </p:nvSpPr>
            <p:spPr>
              <a:xfrm>
                <a:off x="685800" y="3733920"/>
                <a:ext cx="76960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800" y="3809880"/>
                <a:ext cx="76960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800" y="3886200"/>
                <a:ext cx="76960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5800" y="3962520"/>
                <a:ext cx="76960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5800" y="4038480"/>
                <a:ext cx="76960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971800" y="3505680"/>
              <a:ext cx="1066680" cy="304200"/>
              <a:chOff x="2971800" y="3505680"/>
              <a:chExt cx="1066680" cy="3042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009600" y="3581640"/>
                <a:ext cx="990720" cy="228240"/>
                <a:chOff x="3009600" y="3581640"/>
                <a:chExt cx="990720" cy="228240"/>
              </a:xfrm>
            </p:grpSpPr>
            <p:sp>
              <p:nvSpPr>
                <p:cNvPr id="175" name=""/>
                <p:cNvSpPr/>
                <p:nvPr/>
              </p:nvSpPr>
              <p:spPr>
                <a:xfrm flipV="1">
                  <a:off x="30096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85920" y="3581640"/>
                  <a:ext cx="83808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flipV="1">
                  <a:off x="39240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971800" y="3505680"/>
                <a:ext cx="1066680" cy="304200"/>
                <a:chOff x="2971800" y="3505680"/>
                <a:chExt cx="1066680" cy="30420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29718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53880" y="3505680"/>
                  <a:ext cx="90216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39564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047760" y="3657600"/>
                <a:ext cx="913680" cy="152280"/>
                <a:chOff x="3047760" y="3657600"/>
                <a:chExt cx="913680" cy="15228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304776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117960" y="3657600"/>
                  <a:ext cx="77364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389124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4114800" y="3505680"/>
              <a:ext cx="1066680" cy="304200"/>
              <a:chOff x="4114800" y="3505680"/>
              <a:chExt cx="1066680" cy="30420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152600" y="3581640"/>
                <a:ext cx="990720" cy="228240"/>
                <a:chOff x="4152600" y="3581640"/>
                <a:chExt cx="990720" cy="228240"/>
              </a:xfrm>
            </p:grpSpPr>
            <p:sp>
              <p:nvSpPr>
                <p:cNvPr id="188" name=""/>
                <p:cNvSpPr/>
                <p:nvPr/>
              </p:nvSpPr>
              <p:spPr>
                <a:xfrm flipV="1">
                  <a:off x="41526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228920" y="3581640"/>
                  <a:ext cx="83808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50670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114800" y="3505680"/>
                <a:ext cx="1066680" cy="304200"/>
                <a:chOff x="4114800" y="3505680"/>
                <a:chExt cx="1066680" cy="304200"/>
              </a:xfrm>
            </p:grpSpPr>
            <p:sp>
              <p:nvSpPr>
                <p:cNvPr id="192" name=""/>
                <p:cNvSpPr/>
                <p:nvPr/>
              </p:nvSpPr>
              <p:spPr>
                <a:xfrm flipV="1">
                  <a:off x="41148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96880" y="3505680"/>
                  <a:ext cx="90216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50994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0760" y="3657600"/>
                <a:ext cx="913680" cy="152280"/>
                <a:chOff x="4190760" y="3657600"/>
                <a:chExt cx="913680" cy="15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419076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60960" y="3657600"/>
                  <a:ext cx="77364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503424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5181480" y="3505680"/>
              <a:ext cx="1067040" cy="304200"/>
              <a:chOff x="5181480" y="3505680"/>
              <a:chExt cx="1067040" cy="30420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219280" y="3581640"/>
                <a:ext cx="991080" cy="228240"/>
                <a:chOff x="5219280" y="3581640"/>
                <a:chExt cx="991080" cy="22824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521928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295600" y="3581640"/>
                  <a:ext cx="83844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613404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181480" y="3505680"/>
                <a:ext cx="1067040" cy="304200"/>
                <a:chOff x="5181480" y="3505680"/>
                <a:chExt cx="1067040" cy="3042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518148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63560" y="3505680"/>
                  <a:ext cx="90252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616644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257440" y="3657600"/>
                <a:ext cx="914040" cy="152280"/>
                <a:chOff x="5257440" y="3657600"/>
                <a:chExt cx="914040" cy="15228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525744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27640" y="3657600"/>
                  <a:ext cx="77364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610128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400800" y="3505680"/>
              <a:ext cx="1066680" cy="304200"/>
              <a:chOff x="6400800" y="3505680"/>
              <a:chExt cx="1066680" cy="3042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438600" y="3581640"/>
                <a:ext cx="990720" cy="228240"/>
                <a:chOff x="6438600" y="3581640"/>
                <a:chExt cx="990720" cy="22824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64386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14920" y="3581640"/>
                  <a:ext cx="83808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>
                  <a:off x="7353000" y="3581640"/>
                  <a:ext cx="76320" cy="2282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400800" y="3505680"/>
                <a:ext cx="1066680" cy="304200"/>
                <a:chOff x="6400800" y="3505680"/>
                <a:chExt cx="1066680" cy="30420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64008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82880" y="3505680"/>
                  <a:ext cx="90216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7385400" y="3505680"/>
                  <a:ext cx="82080" cy="3042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476760" y="3657600"/>
                <a:ext cx="913680" cy="152280"/>
                <a:chOff x="6476760" y="3657600"/>
                <a:chExt cx="913680" cy="152280"/>
              </a:xfrm>
            </p:grpSpPr>
            <p:sp>
              <p:nvSpPr>
                <p:cNvPr id="222" name=""/>
                <p:cNvSpPr/>
                <p:nvPr/>
              </p:nvSpPr>
              <p:spPr>
                <a:xfrm flipV="1">
                  <a:off x="647676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6960" y="3657600"/>
                  <a:ext cx="77364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>
                  <a:off x="7320240" y="3657600"/>
                  <a:ext cx="70200" cy="15228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1981080" y="4038480"/>
              <a:ext cx="2133000" cy="304560"/>
              <a:chOff x="1981080" y="4038480"/>
              <a:chExt cx="2133000" cy="3045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2057040" y="4038480"/>
                <a:ext cx="1981440" cy="228600"/>
                <a:chOff x="2057040" y="4038480"/>
                <a:chExt cx="1981440" cy="2286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057040" y="4038480"/>
                  <a:ext cx="152640" cy="2286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209680" y="42670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85840" y="4038480"/>
                  <a:ext cx="152640" cy="22860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981080" y="4038480"/>
                <a:ext cx="2133000" cy="304560"/>
                <a:chOff x="1981080" y="4038480"/>
                <a:chExt cx="213300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981080" y="4038480"/>
                  <a:ext cx="164160" cy="30456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45240" y="4343040"/>
                  <a:ext cx="180432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949920" y="4038480"/>
                  <a:ext cx="164160" cy="30456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133360" y="4038480"/>
                <a:ext cx="1828080" cy="152640"/>
                <a:chOff x="2133360" y="4038480"/>
                <a:chExt cx="1828080" cy="152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133360" y="4038480"/>
                  <a:ext cx="140760" cy="1526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274120" y="4191120"/>
                  <a:ext cx="1546920" cy="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3820680" y="4038480"/>
                  <a:ext cx="140760" cy="152640"/>
                </a:xfrm>
                <a:prstGeom prst="line">
                  <a:avLst/>
                </a:prstGeom>
                <a:ln w="3816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Interno del PC - Schema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791320" y="4343400"/>
            <a:ext cx="1752480" cy="1752480"/>
            <a:chOff x="5791320" y="4343400"/>
            <a:chExt cx="1752480" cy="1752480"/>
          </a:xfrm>
        </p:grpSpPr>
        <p:grpSp>
          <p:nvGrpSpPr>
            <p:cNvPr id="240" name=""/>
            <p:cNvGrpSpPr/>
            <p:nvPr/>
          </p:nvGrpSpPr>
          <p:grpSpPr>
            <a:xfrm>
              <a:off x="6019920" y="4343400"/>
              <a:ext cx="152280" cy="1752480"/>
              <a:chOff x="6019920" y="4343400"/>
              <a:chExt cx="152280" cy="17524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6019920" y="4343400"/>
                <a:ext cx="0" cy="1752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19920" y="609588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19920" y="434340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324480" y="4343400"/>
              <a:ext cx="152640" cy="1752480"/>
              <a:chOff x="6324480" y="4343400"/>
              <a:chExt cx="152640" cy="175248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6324480" y="4343400"/>
                <a:ext cx="0" cy="1752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24480" y="60958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24480" y="43434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629400" y="4343400"/>
              <a:ext cx="152280" cy="1752480"/>
              <a:chOff x="6629400" y="4343400"/>
              <a:chExt cx="152280" cy="175248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6629400" y="4343400"/>
                <a:ext cx="0" cy="1752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29400" y="609588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400" y="434340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934320" y="4343400"/>
              <a:ext cx="152280" cy="1752480"/>
              <a:chOff x="6934320" y="4343400"/>
              <a:chExt cx="152280" cy="175248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6934320" y="4343400"/>
                <a:ext cx="0" cy="1752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34320" y="609588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4320" y="4343400"/>
                <a:ext cx="152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238880" y="4343400"/>
              <a:ext cx="152640" cy="1752480"/>
              <a:chOff x="7238880" y="4343400"/>
              <a:chExt cx="152640" cy="17524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7238880" y="4343400"/>
                <a:ext cx="0" cy="1752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38880" y="60958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38880" y="43434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791320" y="4495680"/>
              <a:ext cx="1752480" cy="1524240"/>
              <a:chOff x="5791320" y="4495680"/>
              <a:chExt cx="1752480" cy="15242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5791320" y="4572000"/>
                <a:ext cx="1752480" cy="304920"/>
                <a:chOff x="5791320" y="4572000"/>
                <a:chExt cx="1752480" cy="3049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791320" y="4572000"/>
                  <a:ext cx="17524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791320" y="457200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43800" y="457200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791320" y="4952880"/>
                <a:ext cx="1752480" cy="304920"/>
                <a:chOff x="5791320" y="4952880"/>
                <a:chExt cx="1752480" cy="304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91320" y="4952880"/>
                  <a:ext cx="17524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791320" y="4952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43800" y="495288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791320" y="5334120"/>
                <a:ext cx="1752480" cy="304560"/>
                <a:chOff x="5791320" y="5334120"/>
                <a:chExt cx="1752480" cy="304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791320" y="5334120"/>
                  <a:ext cx="17524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79132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4380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791320" y="5715000"/>
                <a:ext cx="1752480" cy="304920"/>
                <a:chOff x="5791320" y="5715000"/>
                <a:chExt cx="1752480" cy="3049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791320" y="5715000"/>
                  <a:ext cx="17524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91320" y="571500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543800" y="571500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943600" y="4495680"/>
                <a:ext cx="1447920" cy="1371600"/>
              </a:xfrm>
              <a:prstGeom prst="rect">
                <a:avLst/>
              </a:prstGeom>
              <a:solidFill>
                <a:srgbClr val="000000"/>
              </a:solidFill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OCR A Extended"/>
                  </a:rPr>
                  <a:t>My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2971800" y="1981080"/>
            <a:ext cx="990720" cy="1524240"/>
            <a:chOff x="2971800" y="1981080"/>
            <a:chExt cx="990720" cy="1524240"/>
          </a:xfrm>
        </p:grpSpPr>
        <p:grpSp>
          <p:nvGrpSpPr>
            <p:cNvPr id="279" name=""/>
            <p:cNvGrpSpPr/>
            <p:nvPr/>
          </p:nvGrpSpPr>
          <p:grpSpPr>
            <a:xfrm>
              <a:off x="2971800" y="2057400"/>
              <a:ext cx="990720" cy="304920"/>
              <a:chOff x="2971800" y="2057400"/>
              <a:chExt cx="990720" cy="3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2971800" y="2057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7180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6252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71800" y="2438280"/>
              <a:ext cx="990720" cy="304920"/>
              <a:chOff x="2971800" y="2438280"/>
              <a:chExt cx="990720" cy="304920"/>
            </a:xfrm>
          </p:grpSpPr>
          <p:sp>
            <p:nvSpPr>
              <p:cNvPr id="284" name=""/>
              <p:cNvSpPr/>
              <p:nvPr/>
            </p:nvSpPr>
            <p:spPr>
              <a:xfrm>
                <a:off x="2971800" y="243828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7180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6252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971800" y="2819520"/>
              <a:ext cx="990720" cy="304560"/>
              <a:chOff x="2971800" y="2819520"/>
              <a:chExt cx="990720" cy="304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971800" y="281952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180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6252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971800" y="3200400"/>
              <a:ext cx="990720" cy="304920"/>
              <a:chOff x="2971800" y="3200400"/>
              <a:chExt cx="990720" cy="304920"/>
            </a:xfrm>
          </p:grpSpPr>
          <p:sp>
            <p:nvSpPr>
              <p:cNvPr id="292" name=""/>
              <p:cNvSpPr/>
              <p:nvPr/>
            </p:nvSpPr>
            <p:spPr>
              <a:xfrm>
                <a:off x="2971800" y="3200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180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6252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057840" y="1981080"/>
              <a:ext cx="818640" cy="137160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My 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14800" y="1981080"/>
            <a:ext cx="990720" cy="1524240"/>
            <a:chOff x="4114800" y="1981080"/>
            <a:chExt cx="990720" cy="1524240"/>
          </a:xfrm>
        </p:grpSpPr>
        <p:grpSp>
          <p:nvGrpSpPr>
            <p:cNvPr id="297" name=""/>
            <p:cNvGrpSpPr/>
            <p:nvPr/>
          </p:nvGrpSpPr>
          <p:grpSpPr>
            <a:xfrm>
              <a:off x="4114800" y="2057400"/>
              <a:ext cx="990720" cy="304920"/>
              <a:chOff x="4114800" y="2057400"/>
              <a:chExt cx="990720" cy="304920"/>
            </a:xfrm>
          </p:grpSpPr>
          <p:sp>
            <p:nvSpPr>
              <p:cNvPr id="298" name=""/>
              <p:cNvSpPr/>
              <p:nvPr/>
            </p:nvSpPr>
            <p:spPr>
              <a:xfrm>
                <a:off x="4114800" y="2057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480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0552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114800" y="2438280"/>
              <a:ext cx="990720" cy="304920"/>
              <a:chOff x="4114800" y="2438280"/>
              <a:chExt cx="990720" cy="304920"/>
            </a:xfrm>
          </p:grpSpPr>
          <p:sp>
            <p:nvSpPr>
              <p:cNvPr id="302" name=""/>
              <p:cNvSpPr/>
              <p:nvPr/>
            </p:nvSpPr>
            <p:spPr>
              <a:xfrm>
                <a:off x="4114800" y="243828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1480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0552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114800" y="2819520"/>
              <a:ext cx="990720" cy="304560"/>
              <a:chOff x="4114800" y="2819520"/>
              <a:chExt cx="990720" cy="304560"/>
            </a:xfrm>
          </p:grpSpPr>
          <p:sp>
            <p:nvSpPr>
              <p:cNvPr id="306" name=""/>
              <p:cNvSpPr/>
              <p:nvPr/>
            </p:nvSpPr>
            <p:spPr>
              <a:xfrm>
                <a:off x="4114800" y="281952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1480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0552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14800" y="3200400"/>
              <a:ext cx="990720" cy="304920"/>
              <a:chOff x="4114800" y="3200400"/>
              <a:chExt cx="990720" cy="304920"/>
            </a:xfrm>
          </p:grpSpPr>
          <p:sp>
            <p:nvSpPr>
              <p:cNvPr id="310" name=""/>
              <p:cNvSpPr/>
              <p:nvPr/>
            </p:nvSpPr>
            <p:spPr>
              <a:xfrm>
                <a:off x="4114800" y="3200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1480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0552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200840" y="1981080"/>
              <a:ext cx="818640" cy="137160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My 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257800" y="1981080"/>
            <a:ext cx="990720" cy="1524240"/>
            <a:chOff x="5257800" y="1981080"/>
            <a:chExt cx="990720" cy="1524240"/>
          </a:xfrm>
        </p:grpSpPr>
        <p:grpSp>
          <p:nvGrpSpPr>
            <p:cNvPr id="315" name=""/>
            <p:cNvGrpSpPr/>
            <p:nvPr/>
          </p:nvGrpSpPr>
          <p:grpSpPr>
            <a:xfrm>
              <a:off x="5257800" y="2057400"/>
              <a:ext cx="990720" cy="304920"/>
              <a:chOff x="5257800" y="2057400"/>
              <a:chExt cx="990720" cy="304920"/>
            </a:xfrm>
          </p:grpSpPr>
          <p:sp>
            <p:nvSpPr>
              <p:cNvPr id="316" name=""/>
              <p:cNvSpPr/>
              <p:nvPr/>
            </p:nvSpPr>
            <p:spPr>
              <a:xfrm>
                <a:off x="5257800" y="2057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5780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257800" y="2438280"/>
              <a:ext cx="990720" cy="304920"/>
              <a:chOff x="5257800" y="2438280"/>
              <a:chExt cx="990720" cy="304920"/>
            </a:xfrm>
          </p:grpSpPr>
          <p:sp>
            <p:nvSpPr>
              <p:cNvPr id="320" name=""/>
              <p:cNvSpPr/>
              <p:nvPr/>
            </p:nvSpPr>
            <p:spPr>
              <a:xfrm>
                <a:off x="5257800" y="243828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5780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4852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257800" y="2819520"/>
              <a:ext cx="990720" cy="304560"/>
              <a:chOff x="5257800" y="2819520"/>
              <a:chExt cx="990720" cy="304560"/>
            </a:xfrm>
          </p:grpSpPr>
          <p:sp>
            <p:nvSpPr>
              <p:cNvPr id="324" name=""/>
              <p:cNvSpPr/>
              <p:nvPr/>
            </p:nvSpPr>
            <p:spPr>
              <a:xfrm>
                <a:off x="5257800" y="281952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5780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4852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257800" y="3200400"/>
              <a:ext cx="990720" cy="304920"/>
              <a:chOff x="5257800" y="3200400"/>
              <a:chExt cx="990720" cy="304920"/>
            </a:xfrm>
          </p:grpSpPr>
          <p:sp>
            <p:nvSpPr>
              <p:cNvPr id="328" name=""/>
              <p:cNvSpPr/>
              <p:nvPr/>
            </p:nvSpPr>
            <p:spPr>
              <a:xfrm>
                <a:off x="5257800" y="3200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5780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4852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343840" y="1981080"/>
              <a:ext cx="818640" cy="137160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My 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400800" y="1981080"/>
            <a:ext cx="990720" cy="1524240"/>
            <a:chOff x="6400800" y="1981080"/>
            <a:chExt cx="990720" cy="1524240"/>
          </a:xfrm>
        </p:grpSpPr>
        <p:grpSp>
          <p:nvGrpSpPr>
            <p:cNvPr id="333" name=""/>
            <p:cNvGrpSpPr/>
            <p:nvPr/>
          </p:nvGrpSpPr>
          <p:grpSpPr>
            <a:xfrm>
              <a:off x="6400800" y="2057400"/>
              <a:ext cx="990720" cy="304920"/>
              <a:chOff x="6400800" y="2057400"/>
              <a:chExt cx="990720" cy="304920"/>
            </a:xfrm>
          </p:grpSpPr>
          <p:sp>
            <p:nvSpPr>
              <p:cNvPr id="334" name=""/>
              <p:cNvSpPr/>
              <p:nvPr/>
            </p:nvSpPr>
            <p:spPr>
              <a:xfrm>
                <a:off x="6400800" y="2057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0080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91520" y="2057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400800" y="2438280"/>
              <a:ext cx="990720" cy="304920"/>
              <a:chOff x="6400800" y="2438280"/>
              <a:chExt cx="990720" cy="304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400800" y="243828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0080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1520" y="243828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400800" y="2819520"/>
              <a:ext cx="990720" cy="304560"/>
              <a:chOff x="6400800" y="2819520"/>
              <a:chExt cx="990720" cy="304560"/>
            </a:xfrm>
          </p:grpSpPr>
          <p:sp>
            <p:nvSpPr>
              <p:cNvPr id="342" name=""/>
              <p:cNvSpPr/>
              <p:nvPr/>
            </p:nvSpPr>
            <p:spPr>
              <a:xfrm>
                <a:off x="6400800" y="281952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0080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91520" y="2819520"/>
                <a:ext cx="0" cy="304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400800" y="3200400"/>
              <a:ext cx="990720" cy="304920"/>
              <a:chOff x="6400800" y="3200400"/>
              <a:chExt cx="990720" cy="304920"/>
            </a:xfrm>
          </p:grpSpPr>
          <p:sp>
            <p:nvSpPr>
              <p:cNvPr id="346" name=""/>
              <p:cNvSpPr/>
              <p:nvPr/>
            </p:nvSpPr>
            <p:spPr>
              <a:xfrm>
                <a:off x="6400800" y="3200400"/>
                <a:ext cx="990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0080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91520" y="320040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486840" y="1981080"/>
              <a:ext cx="818640" cy="137160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My 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916920" y="3656520"/>
            <a:ext cx="6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36360" y="601884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Tahoma"/>
              </a:rPr>
              <a:t>microprocess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133720" y="4419720"/>
            <a:ext cx="609480" cy="1850760"/>
            <a:chOff x="2133720" y="4419720"/>
            <a:chExt cx="609480" cy="1850760"/>
          </a:xfrm>
        </p:grpSpPr>
        <p:grpSp>
          <p:nvGrpSpPr>
            <p:cNvPr id="353" name=""/>
            <p:cNvGrpSpPr/>
            <p:nvPr/>
          </p:nvGrpSpPr>
          <p:grpSpPr>
            <a:xfrm>
              <a:off x="2133720" y="4522680"/>
              <a:ext cx="609480" cy="106560"/>
              <a:chOff x="2133720" y="4522680"/>
              <a:chExt cx="609480" cy="106560"/>
            </a:xfrm>
          </p:grpSpPr>
          <p:sp>
            <p:nvSpPr>
              <p:cNvPr id="354" name=""/>
              <p:cNvSpPr/>
              <p:nvPr/>
            </p:nvSpPr>
            <p:spPr>
              <a:xfrm>
                <a:off x="2133720" y="452268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33720" y="452268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52268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133720" y="5037120"/>
              <a:ext cx="609480" cy="106560"/>
              <a:chOff x="2133720" y="5037120"/>
              <a:chExt cx="609480" cy="106560"/>
            </a:xfrm>
          </p:grpSpPr>
          <p:sp>
            <p:nvSpPr>
              <p:cNvPr id="358" name=""/>
              <p:cNvSpPr/>
              <p:nvPr/>
            </p:nvSpPr>
            <p:spPr>
              <a:xfrm>
                <a:off x="2133720" y="503712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33720" y="503712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3200" y="503712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133720" y="5551560"/>
              <a:ext cx="609480" cy="106200"/>
              <a:chOff x="2133720" y="5551560"/>
              <a:chExt cx="609480" cy="106200"/>
            </a:xfrm>
          </p:grpSpPr>
          <p:sp>
            <p:nvSpPr>
              <p:cNvPr id="362" name=""/>
              <p:cNvSpPr/>
              <p:nvPr/>
            </p:nvSpPr>
            <p:spPr>
              <a:xfrm>
                <a:off x="2133720" y="555156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33720" y="555156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3200" y="555156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133720" y="6066000"/>
              <a:ext cx="609480" cy="106200"/>
              <a:chOff x="2133720" y="6066000"/>
              <a:chExt cx="609480" cy="106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133720" y="60660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33720" y="606600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43200" y="606600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249640" y="4419720"/>
              <a:ext cx="377640" cy="1850760"/>
            </a:xfrm>
            <a:prstGeom prst="rect">
              <a:avLst/>
            </a:prstGeom>
            <a:solidFill>
              <a:srgbClr val="0033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au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352680" y="4522680"/>
            <a:ext cx="609840" cy="106560"/>
            <a:chOff x="3352680" y="4522680"/>
            <a:chExt cx="609840" cy="106560"/>
          </a:xfrm>
        </p:grpSpPr>
        <p:sp>
          <p:nvSpPr>
            <p:cNvPr id="371" name=""/>
            <p:cNvSpPr/>
            <p:nvPr/>
          </p:nvSpPr>
          <p:spPr>
            <a:xfrm>
              <a:off x="3352680" y="452268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4522680"/>
              <a:ext cx="0" cy="106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62520" y="4522680"/>
              <a:ext cx="0" cy="106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352680" y="5037120"/>
            <a:ext cx="609840" cy="106560"/>
            <a:chOff x="3352680" y="5037120"/>
            <a:chExt cx="609840" cy="106560"/>
          </a:xfrm>
        </p:grpSpPr>
        <p:sp>
          <p:nvSpPr>
            <p:cNvPr id="375" name=""/>
            <p:cNvSpPr/>
            <p:nvPr/>
          </p:nvSpPr>
          <p:spPr>
            <a:xfrm>
              <a:off x="3352680" y="503712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52680" y="5037120"/>
              <a:ext cx="0" cy="106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62520" y="5037120"/>
              <a:ext cx="0" cy="106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352680" y="5551560"/>
            <a:ext cx="609840" cy="106200"/>
            <a:chOff x="3352680" y="5551560"/>
            <a:chExt cx="609840" cy="106200"/>
          </a:xfrm>
        </p:grpSpPr>
        <p:sp>
          <p:nvSpPr>
            <p:cNvPr id="379" name=""/>
            <p:cNvSpPr/>
            <p:nvPr/>
          </p:nvSpPr>
          <p:spPr>
            <a:xfrm>
              <a:off x="3352680" y="555156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52680" y="5551560"/>
              <a:ext cx="0" cy="106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62520" y="5551560"/>
              <a:ext cx="0" cy="106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52680" y="6066000"/>
            <a:ext cx="609840" cy="106200"/>
            <a:chOff x="3352680" y="6066000"/>
            <a:chExt cx="609840" cy="106200"/>
          </a:xfrm>
        </p:grpSpPr>
        <p:sp>
          <p:nvSpPr>
            <p:cNvPr id="383" name=""/>
            <p:cNvSpPr/>
            <p:nvPr/>
          </p:nvSpPr>
          <p:spPr>
            <a:xfrm>
              <a:off x="3352680" y="606600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52680" y="6066000"/>
              <a:ext cx="0" cy="106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6066000"/>
              <a:ext cx="0" cy="106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468600" y="4419720"/>
            <a:ext cx="378000" cy="1850760"/>
          </a:xfrm>
          <a:prstGeom prst="rect">
            <a:avLst/>
          </a:prstGeom>
          <a:solidFill>
            <a:srgbClr val="0033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OCR A Extended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95480" y="4191120"/>
            <a:ext cx="304560" cy="2209680"/>
            <a:chOff x="2895480" y="4191120"/>
            <a:chExt cx="304560" cy="2209680"/>
          </a:xfrm>
        </p:grpSpPr>
        <p:sp>
          <p:nvSpPr>
            <p:cNvPr id="388" name=""/>
            <p:cNvSpPr/>
            <p:nvPr/>
          </p:nvSpPr>
          <p:spPr>
            <a:xfrm flipV="1">
              <a:off x="2895480" y="4191120"/>
              <a:ext cx="0" cy="2209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971440" y="4191120"/>
              <a:ext cx="0" cy="2209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047760" y="4191120"/>
              <a:ext cx="0" cy="2209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124080" y="4191120"/>
              <a:ext cx="0" cy="2209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00040" y="4191120"/>
              <a:ext cx="0" cy="2209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600200" y="4038480"/>
            <a:ext cx="304560" cy="2286000"/>
            <a:chOff x="1600200" y="4038480"/>
            <a:chExt cx="304560" cy="2286000"/>
          </a:xfrm>
        </p:grpSpPr>
        <p:sp>
          <p:nvSpPr>
            <p:cNvPr id="394" name=""/>
            <p:cNvSpPr/>
            <p:nvPr/>
          </p:nvSpPr>
          <p:spPr>
            <a:xfrm flipV="1">
              <a:off x="160020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67616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5248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82880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90476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191120" y="4038480"/>
            <a:ext cx="304560" cy="2286000"/>
            <a:chOff x="4191120" y="4038480"/>
            <a:chExt cx="304560" cy="2286000"/>
          </a:xfrm>
        </p:grpSpPr>
        <p:sp>
          <p:nvSpPr>
            <p:cNvPr id="400" name=""/>
            <p:cNvSpPr/>
            <p:nvPr/>
          </p:nvSpPr>
          <p:spPr>
            <a:xfrm flipV="1">
              <a:off x="419112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26708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34340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1972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495680" y="4038480"/>
              <a:ext cx="0" cy="2286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62120" y="4419720"/>
            <a:ext cx="609480" cy="1850760"/>
            <a:chOff x="762120" y="4419720"/>
            <a:chExt cx="609480" cy="1850760"/>
          </a:xfrm>
        </p:grpSpPr>
        <p:grpSp>
          <p:nvGrpSpPr>
            <p:cNvPr id="406" name=""/>
            <p:cNvGrpSpPr/>
            <p:nvPr/>
          </p:nvGrpSpPr>
          <p:grpSpPr>
            <a:xfrm>
              <a:off x="762120" y="4522680"/>
              <a:ext cx="609480" cy="106560"/>
              <a:chOff x="762120" y="4522680"/>
              <a:chExt cx="609480" cy="106560"/>
            </a:xfrm>
          </p:grpSpPr>
          <p:sp>
            <p:nvSpPr>
              <p:cNvPr id="407" name=""/>
              <p:cNvSpPr/>
              <p:nvPr/>
            </p:nvSpPr>
            <p:spPr>
              <a:xfrm>
                <a:off x="762120" y="452268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62120" y="452268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600" y="452268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762120" y="5037120"/>
              <a:ext cx="609480" cy="106560"/>
              <a:chOff x="762120" y="5037120"/>
              <a:chExt cx="609480" cy="106560"/>
            </a:xfrm>
          </p:grpSpPr>
          <p:sp>
            <p:nvSpPr>
              <p:cNvPr id="411" name=""/>
              <p:cNvSpPr/>
              <p:nvPr/>
            </p:nvSpPr>
            <p:spPr>
              <a:xfrm>
                <a:off x="762120" y="503712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2120" y="503712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71600" y="5037120"/>
                <a:ext cx="0" cy="106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62120" y="5551560"/>
              <a:ext cx="609480" cy="106200"/>
              <a:chOff x="762120" y="5551560"/>
              <a:chExt cx="609480" cy="106200"/>
            </a:xfrm>
          </p:grpSpPr>
          <p:sp>
            <p:nvSpPr>
              <p:cNvPr id="415" name=""/>
              <p:cNvSpPr/>
              <p:nvPr/>
            </p:nvSpPr>
            <p:spPr>
              <a:xfrm>
                <a:off x="762120" y="555156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2120" y="555156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71600" y="555156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6066000"/>
              <a:ext cx="609480" cy="106200"/>
              <a:chOff x="762120" y="6066000"/>
              <a:chExt cx="609480" cy="106200"/>
            </a:xfrm>
          </p:grpSpPr>
          <p:sp>
            <p:nvSpPr>
              <p:cNvPr id="419" name=""/>
              <p:cNvSpPr/>
              <p:nvPr/>
            </p:nvSpPr>
            <p:spPr>
              <a:xfrm>
                <a:off x="762120" y="60660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2120" y="606600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371600" y="6066000"/>
                <a:ext cx="0" cy="106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878040" y="4419720"/>
              <a:ext cx="377640" cy="1850760"/>
            </a:xfrm>
            <a:prstGeom prst="rect">
              <a:avLst/>
            </a:prstGeom>
            <a:solidFill>
              <a:srgbClr val="0033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OCR A Extended"/>
                </a:rPr>
                <a:t>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85800" y="3210120"/>
            <a:ext cx="2057400" cy="459720"/>
          </a:xfrm>
          <a:prstGeom prst="rect">
            <a:avLst/>
          </a:prstGeom>
          <a:solidFill>
            <a:srgbClr val="0033cc">
              <a:alpha val="5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OCR A Extended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Microprocessor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Central Processing Uni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CPU): chip integrato che dirige ogni attività del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overna le operazioni richieste dai programmi e dal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istema Operativo per mezzo delle 2 compon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unità di controll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CU)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terpreta le istru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olla le operazioni correl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vrintende alla trasmissione dati tra le compon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unità aritmetico-logic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ALU):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egue tutte le operazioni logico-aritmetic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empi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l Serie x86 e compatibili (AMD, Cyrix)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otorola Serie 68000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BM Power PC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UN Sparc (RIS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Velocità di CPU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velocità di elaborazione viene misurata in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MegaHertz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ssia milioni di </a:t>
            </a: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cic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 seco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ogni ciclo scandito dal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cloc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terno, un impulso di dati transita fra i contatti esterni del microprocessore e l'architettura inter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valutare la velocità è necessario sapere 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quantità singola di dati per ogni cicl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. Il 8086, ha un'architettura a 16 bi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comando che il microprocessore deve eseguire richied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lcuni cic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essere portato a term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ze quando si vanno a confrontare microprocessori appartenenti a diverse famigl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Memori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ogni PC vi sono due tipi di memori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emoria di lavor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erve a far partire il PC, caricare il sistema operativo e per lavorare con programmi e document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costituita da chip montati sulla scheda mad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divide in due parti: </a:t>
            </a:r>
            <a:r>
              <a:rPr b="1" lang="it-IT" sz="2200" spc="-1" strike="noStrike">
                <a:solidFill>
                  <a:srgbClr val="0033cc"/>
                </a:solidFill>
                <a:latin typeface="Arial"/>
              </a:rPr>
              <a:t>memoria ROM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33cc"/>
                </a:solidFill>
                <a:latin typeface="Arial"/>
              </a:rPr>
              <a:t>memoria RAM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emoria di mas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erve a registrare il sistema operativo, i programmi ed i documenti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tipo di memoria conserva permanentemente le informazioni registr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empi: il disco rigido, i dischetti, i CD-ROM..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Read-Only Memory (ROM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Memoria a sola let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si avvia un PC, si attiva una procedura contenuta nella memoria ROM che si chiama </a:t>
            </a: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BIO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asic Input Output System) con il compito 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dentificare il process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trollare la memoria disponibile e i vari dispositivi e componenti del PC (es. disco rigido, lettore CD, ec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aricare il sistema operativo dal disco rigido alla memoria RAM per “prendere possesso” del P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OM, servendo ad operazioni delicate, come l’avvio del PC, rimane inalterata tra una sessione e l’al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sicurezza la ROM del BIOS è solo parzialmente indele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Random Access Memory (RAM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Memoria ad accesso casu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eseguire un programma il sistema operativo legge dal disco rigido il programma (e dati correlati), e lo carica nella memoria RA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o il lavoro sui dati si svolge nella RAM e deve essere considerat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ovvisor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inché non venga “salvato”, cioè non si chieda al sistema operativo di registrare il lavoro su una memoria di mass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volati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a RAM viene continuamente tenuta in vita da impulsi elettrici; in mancanza di questi, quando il computer viene spento, essa perde il suo conten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tre alla capacità misurata in Megabyte, della RAM interessa la velocità di trasferimento dati (in 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ache RAM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M veloce contenente i dati e le istruzioni utilizzate più di frequente per metterli a disposizione del processore in modo rap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ue livell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rimo livello (L1): racchiusa nel chip del processor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vora alla stessa frequ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lto costosa e non espandi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ensioni: 32-64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econdo livello (L2): esterna ed incorporata sulla scheda mad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iù lenta della L1 ma più veloce della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iù economica della L1 ed espandi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ensioni: 256-512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Panoramica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trodu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tti bas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odifica binaria ed unità di misur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hardware e soft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sonal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ern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se, porte, d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tern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PU, memorie, schede, memorie di mas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periferich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tiera, mouse, stampante, sc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BU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bus è formato da piste di rame che trasportano sia dati sia segnali di cont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bus principale serve alla comunicazione attraverso impulsi elettrici tra CPU, Memoria e i bus collegati con le periferiche di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ampiezz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un bus si misura con il numero di bit che possono essere trasferiti contempora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i i bus più comuni hanno un’ampiezza di 64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Scheda Video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a visualizzazione dei segnali del computer sul video, questi devono essere trasformati in segnali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o ciò che appare sul monitor viene inviato dal computer ad una scheda di interfaccia inserita in uno slot oppure, integrata sulla scheda mad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video RA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hip di memoria, nei quali vengono mappati i dati che devono essere visualizzati sullo schermo (capacità 128Kb-1M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visualizzazione avviene tramite l'accensione di </a:t>
            </a: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pixe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nti luminosi (tramite 3 DAC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Arial"/>
              </a:rPr>
              <a:t>risoluzion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= numero di pixel nelle due dim.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es. 1024x768, 800x600, 640x480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Arial"/>
              </a:rPr>
              <a:t>profondi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= numero di colori o tonalità di grigio (es. 24bit/16 milioni, 16bit/64K, 8bit/256, 4bit/1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Scheda Audio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processore dedicato (DSP) comanda i convertitori e può effettuare la compres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riproduzion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suoni digitali sono convertiti da file numerici (come nei CD musicali) in segnali analogici mediante un convertitore D/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campionament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la registrazione digitale tramite microfono o altra sorgente avviene convertendo il segnale analogico in file numerici mediante un convertitore A/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onda viene divisa in parti uguali per un certo numero di volte al secondo (freq. di campionamen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lità: dipende dal dettaglio in cui l’onda viene convertita i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zione MIDI: standard di comunicazione musica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riproduzion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file simili a spartiti passati ad un sintetizzatore F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ingress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periferiche che sono in grado di dialogare in questo forma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Disco Rigido (HD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duzione di Hard Disk (non è “floppy”= pieghevo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mensioni: Gigabytes; Velocità: milliseco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onenti elettroniche e meccaniche (sottovuoto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una serie di dischi in pila fatti di materiale magnetizzabile in continua rotazio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stine magnetica di lettura/scrittur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issate ad un unico supporto (si muovono insiem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per ogni faccia di ogni dis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lo toccano per il cuscino d’aria che si forma per la rotazione veloce dei disc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mandato da un controller (IDE o SCS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organizzazione dati per </a:t>
            </a: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cilindri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tracce concentriche) e settori (o </a:t>
            </a: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cluster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. Indice: tavola F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Dischetti (FD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loppy disk perché un tempo pieghevoli (es. 5’1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acità: qualche Megabyte (tipicamente 1.44 M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rimovibil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il supporto di registrazione magnetica è separato dalla unità di lettura e registr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testi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faccia: le testine sono in grado di modificare la polarizzazione delle particelle magnetizzabili, o di percepirne lo sta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a di essere utilizzati vanno </a:t>
            </a:r>
            <a:r>
              <a:rPr b="1" lang="it-IT" sz="2400" spc="-1" strike="noStrike">
                <a:solidFill>
                  <a:srgbClr val="339933"/>
                </a:solidFill>
                <a:latin typeface="Tahoma"/>
              </a:rPr>
              <a:t>formattat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ioè predisposti per la lettura/scrittura, suddividendo il rivestimento magnetico in tracce e sett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sono esse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protetti dalla scrittur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mite apertura della finestrella appos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ompact Disc (CD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cnologia ottica per archivio di 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to unico, ma il lettore è diverso da quelli utilizzati per i CD music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ganizzazione dati secondo standard diver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D-ROM è a sola lettura: la fabbricazione prevede la pressofusione in plastica di ciascun esemplare a partire da un originale (master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uperficie del dischetto è composta da minuscole scanalature che rappresentano i singoli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laser colpisce le scanalature e il drive è in grado di tramutare la rifrazione del raggio in segnali elettrici da inviare al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ncipale interfaccia di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lfanumerici</a:t>
            </a:r>
            <a:br>
              <a:rPr sz="2200"/>
            </a:b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z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Z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unteggiatura</a:t>
            </a:r>
            <a:br>
              <a:rPr sz="2200"/>
            </a:b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; : &amp; % ) ( +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peciali</a:t>
            </a:r>
            <a:br>
              <a:rPr sz="2200"/>
            </a:b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Fn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AL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CTRL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Invio, tasti cursor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tierino numer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i so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differenz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ella disposizione dei tasti sulla tastiera legate alla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n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Tastiera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50" name="keyb" descr=""/>
          <p:cNvPicPr/>
          <p:nvPr/>
        </p:nvPicPr>
        <p:blipFill>
          <a:blip r:embed="rId1"/>
          <a:stretch/>
        </p:blipFill>
        <p:spPr>
          <a:xfrm>
            <a:off x="3733920" y="1860480"/>
            <a:ext cx="4724280" cy="195732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Tasti Speciali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Esc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annulla op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Tasti Fun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rogrammab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Stamp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stampa scher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Bloc Scor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blocca lo scro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Tab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tabul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Ctrl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ontrollo - usato in combinazione con altri ta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Al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in combinazione con altri tasti, varia la loro fun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Alt G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idem per simboli grafi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Caps Lock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maiuscolo blocc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Shif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maiuscolo o simbolo in alto dei ta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Backspac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ancella il carattere a sinistra del curs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Invi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ritorno a capo e conferma coman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Bloc Num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attiva/disattiva tastierino numer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Pagina su e giù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su o giù di una pagina di documento nella finest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Tasto Window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er avere menu Start di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In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assa in modo inserimento/sovrascrit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Canc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ancella a destra del cursore o l'oggetto selezion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Fi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vai a fine finestra o docu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Hom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vai ad inizio finest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Tasti Frecci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spostamento cursore</a:t>
            </a:r>
            <a:r>
              <a:rPr b="0" lang="it-IT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Stampant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iferica di output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oluzione in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dp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ot per inc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locità misurate in 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pp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age per minu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Ink je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piccolissimi iniettori, alimentati da cartucce d'inchiostro, di una testina di stampa spruzzano inchiostro ad alta pressione sulla carta mentre la testina si sposta in larghez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Laser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sistema basato su un fascio di luce laser che traccia su un rullo la stampa finale, caricandolo elettrostaticamente;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polvere di inchiostro del toner è attirata nelle zone caricate e successivamente fissata ad alta temperatu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Moni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CR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tubo colpito da un fascio di raggi catod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1 pixel = 3 punti/strisce di fosforo (</a:t>
            </a:r>
            <a:r>
              <a:rPr b="0" lang="it-IT" sz="2200" spc="-1" strike="noStrike">
                <a:solidFill>
                  <a:srgbClr val="800000"/>
                </a:solidFill>
                <a:latin typeface="Tahoma"/>
              </a:rPr>
              <a:t>R</a:t>
            </a: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G</a:t>
            </a: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B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lore = luminosità dei 3 fosfor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atto: griglia di dispositivi luminescenti (diodi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 passaggio di elettricità i dispositivi alle intersezioni emettono l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CD: strato di fosfori RG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trice passiva (TN, STN); matrice attiva (TFT, A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lasma: pannelli di vetro con gas all'intern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ratteristiche tecni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dot pitch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spazio tra i punti/strisce di fosforo (es. 0.26m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frequenza di refresh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dipende dalla risoluzione (in Mhz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Introduzion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Tahoma"/>
              </a:rPr>
              <a:t>Computer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to negli anni 40 come strumento di calcolo per la ricerca (sviluppatosi nei grossi sistemi detti Mainframe, Mini, Supercomputer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Tahoma"/>
              </a:rPr>
              <a:t>Personal Computer (PC):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to negli anni 60/7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Tahoma"/>
              </a:rPr>
              <a:t>ogg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crittura (es. battitura tesi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alcolo (es. tenuta bilancio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rchiviazione e ritrovamento da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disegno (es. tecnico C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lab. immagini (es. foto-ritocco, montaggio video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usica (es. registrazione, composizione, edit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Scanne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positivo per digitalizzare elementi grafici; produce una immagine digi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pi: piano, a tambu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zionamento: luce fluorescente sul documento;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uce riflessa convogliata in una lente sul dispositivo CCD che legge l'intensità della luce in pixel immaginari sul documento. Per i colori ci sono 3 C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ratteristiche tecni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risoluzion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99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ottic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in dpi):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umero di sensori del C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99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Tahoma"/>
              </a:rPr>
              <a:t>massim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 ottenuta per interpol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cc"/>
                </a:solidFill>
                <a:latin typeface="Tahoma"/>
              </a:rPr>
              <a:t>profondità del color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numero di colori che può riconoscere e ricreare (es. 24 bit o </a:t>
            </a:r>
            <a:r>
              <a:rPr b="0" i="1" lang="it-IT" sz="2200" spc="-1" strike="noStrike">
                <a:solidFill>
                  <a:srgbClr val="800000"/>
                </a:solidFill>
                <a:latin typeface="Tahoma"/>
              </a:rPr>
              <a:t>true color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OC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Riconoscimento Ottico dei Carat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cansione documento per produrre la </a:t>
            </a: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bit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OCR esamina le zone chiare e scure per individuare la presenza di testo e/o graf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trazione delle caratteristic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fronto con i modelli di carattere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matrici o mod. matematic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roduzione di un file di testo modificabile con editor o programmi di videoscrittu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cuni monitor o programmi OCR sono in grado di riconoscere graf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Definizion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comput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a macchina programmabile che opera mediant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emorizz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labor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rasmiss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impulsi elettrici che rappresentano un’entità astratta: l’</a:t>
            </a: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unità di informazione elementare (singolo impulso) viene detta </a:t>
            </a: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Bi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it-IT" sz="2400" spc="-1" strike="noStrike" u="sng">
                <a:solidFill>
                  <a:srgbClr val="0033cc"/>
                </a:solidFill>
                <a:uFillTx/>
                <a:latin typeface="Tahoma"/>
              </a:rPr>
              <a:t>B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ry Digi</a:t>
            </a:r>
            <a:r>
              <a:rPr b="1" lang="it-IT" sz="2400" spc="-1" strike="noStrike" u="sng">
                <a:solidFill>
                  <a:srgbClr val="0033cc"/>
                </a:solidFill>
                <a:uFillTx/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codificato con una cifra binaria, 0 o 1, che rappresenta l’assenza o la presenza di cor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odifica - Unità di Misura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elaborare numeri e lettere è necessario utilizzare gruppi di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gruppo di otto bit viene chiamato </a:t>
            </a: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uò rappresentare </a:t>
            </a:r>
            <a:r>
              <a:rPr b="1" lang="it-IT" sz="2200" spc="-1" strike="noStrike">
                <a:solidFill>
                  <a:srgbClr val="0033cc"/>
                </a:solidFill>
                <a:latin typeface="Tahoma"/>
              </a:rPr>
              <a:t>256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=2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 valor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ene messo in corrispondenza (codifica) con una lettera, un numero in una cella di memoria, etc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stituisce l’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ahoma"/>
              </a:rPr>
              <a:t>unità di misura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per la capacità di memorizzazione, assieme ai suoi multipli:</a:t>
            </a:r>
            <a:br>
              <a:rPr sz="2200"/>
            </a:b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Kiloby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KB)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1024 byte</a:t>
            </a:r>
            <a:br>
              <a:rPr sz="2200"/>
            </a:b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Megaby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MB)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1024 KB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c.a. 1 milione di byte)</a:t>
            </a:r>
            <a:br>
              <a:rPr sz="2200"/>
            </a:b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Gigaby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GB)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1024 MB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c.a. 1 miliardo di byte) </a:t>
            </a:r>
            <a:br>
              <a:rPr sz="2200"/>
            </a:br>
            <a:r>
              <a:rPr b="0" lang="it-IT" sz="2200" spc="-1" strike="noStrike">
                <a:solidFill>
                  <a:srgbClr val="339933"/>
                </a:solidFill>
                <a:latin typeface="Tahoma"/>
              </a:rPr>
              <a:t>Terabyt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TB)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1024 GB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c.a. mille miliardi di byte)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673360"/>
                <a:tab algn="l" pos="2760840"/>
                <a:tab algn="l" pos="304812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Hardware e Softwar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omputer coesistono due componenti una materiale e l’altra lo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Hardware</a:t>
            </a: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HW): insieme delle parti fis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Softwa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SW): istruzioni e 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 u="sng">
                <a:solidFill>
                  <a:srgbClr val="000000"/>
                </a:solidFill>
                <a:uFillTx/>
                <a:latin typeface="Tahoma"/>
              </a:rPr>
              <a:t>fil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struttura logica principale di archiviazion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 u="sng">
                <a:solidFill>
                  <a:srgbClr val="000000"/>
                </a:solidFill>
                <a:uFillTx/>
                <a:latin typeface="Tahoma"/>
              </a:rPr>
              <a:t>programmi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: file (o insieme di file) che contengono le istruzioni necessarie a svolgere determinate operazio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Tahoma"/>
              </a:rPr>
              <a:t>metafora “musicale”</a:t>
            </a: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o strumento musicale è l’hardwar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artitura costituisce il softwar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aborare l’informazione = suonare quella mu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omponenti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onenti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Unità Centr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sta nel case, cioè l'involucro che racchiude i componenti elettronici fondamentali per il funzionamento del 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Periferich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dispositivi per far comunicare l’unità centrale con l’ester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Inpu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immissione): per l’introduzione dei dati.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. tastiera, mo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9933"/>
                </a:solidFill>
                <a:latin typeface="Tahoma"/>
              </a:rPr>
              <a:t>Outpu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(emissione): per la presentazione di risultati e comunicazione con l’utente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. video, stampa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Schema PC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495680"/>
            <a:ext cx="4724640" cy="1371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876920"/>
            <a:ext cx="76320" cy="759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572000"/>
            <a:ext cx="175248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572000"/>
            <a:ext cx="175248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105520"/>
            <a:ext cx="175248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649760"/>
            <a:ext cx="152640" cy="74520"/>
          </a:xfrm>
          <a:prstGeom prst="rect">
            <a:avLst/>
          </a:prstGeom>
          <a:solidFill>
            <a:srgbClr val="3399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3280"/>
            <a:ext cx="152640" cy="74520"/>
          </a:xfrm>
          <a:prstGeom prst="rect">
            <a:avLst/>
          </a:prstGeom>
          <a:solidFill>
            <a:srgbClr val="339933"/>
          </a:solidFill>
          <a:ln w="6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1840" y="4952880"/>
            <a:ext cx="152280" cy="76320"/>
          </a:xfrm>
          <a:prstGeom prst="rect">
            <a:avLst/>
          </a:prstGeom>
          <a:solidFill>
            <a:srgbClr val="3399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724280"/>
            <a:ext cx="1219320" cy="76320"/>
          </a:xfrm>
          <a:prstGeom prst="rect">
            <a:avLst/>
          </a:prstGeom>
          <a:solidFill>
            <a:srgbClr val="0033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4952880"/>
            <a:ext cx="152640" cy="76320"/>
          </a:xfrm>
          <a:prstGeom prst="rect">
            <a:avLst/>
          </a:prstGeom>
          <a:solidFill>
            <a:srgbClr val="3399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1840" y="4724280"/>
            <a:ext cx="152280" cy="152640"/>
          </a:xfrm>
          <a:prstGeom prst="ellipse">
            <a:avLst/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181480"/>
            <a:ext cx="167616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cc"/>
                </a:solidFill>
                <a:latin typeface="Tahoma"/>
              </a:rPr>
              <a:t>My PC GL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334120"/>
            <a:ext cx="1600200" cy="152280"/>
          </a:xfrm>
          <a:prstGeom prst="rect">
            <a:avLst/>
          </a:prstGeom>
          <a:solidFill>
            <a:srgbClr val="ffff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14800"/>
            <a:ext cx="14479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4419720"/>
            <a:ext cx="2133360" cy="75960"/>
          </a:xfrm>
          <a:prstGeom prst="rect">
            <a:avLst/>
          </a:prstGeom>
          <a:solidFill>
            <a:srgbClr val="0033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81080" y="6019200"/>
            <a:ext cx="5181840" cy="609480"/>
          </a:xfrm>
          <a:custGeom>
            <a:avLst/>
            <a:gdLst>
              <a:gd name="textAreaLeft" fmla="*/ 480600 w 5181840"/>
              <a:gd name="textAreaRight" fmla="*/ 4701240 w 5181840"/>
              <a:gd name="textAreaTop" fmla="*/ 56520 h 609480"/>
              <a:gd name="textAreaBottom" fmla="*/ 5529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43" y="21600"/>
                </a:lnTo>
                <a:lnTo>
                  <a:pt x="457" y="21600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5257800"/>
            <a:ext cx="457200" cy="76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886200"/>
            <a:ext cx="1447560" cy="1447920"/>
          </a:xfrm>
          <a:custGeom>
            <a:avLst/>
            <a:gdLst/>
            <a:ahLst/>
            <a:rect l="l" t="t" r="r" b="b"/>
            <a:pathLst>
              <a:path w="1008" h="912">
                <a:moveTo>
                  <a:pt x="624" y="912"/>
                </a:moveTo>
                <a:cubicBezTo>
                  <a:pt x="816" y="712"/>
                  <a:pt x="1008" y="512"/>
                  <a:pt x="1008" y="432"/>
                </a:cubicBezTo>
                <a:cubicBezTo>
                  <a:pt x="1008" y="352"/>
                  <a:pt x="736" y="496"/>
                  <a:pt x="624" y="432"/>
                </a:cubicBezTo>
                <a:cubicBezTo>
                  <a:pt x="512" y="368"/>
                  <a:pt x="424" y="96"/>
                  <a:pt x="336" y="48"/>
                </a:cubicBezTo>
                <a:cubicBezTo>
                  <a:pt x="248" y="0"/>
                  <a:pt x="112" y="56"/>
                  <a:pt x="96" y="144"/>
                </a:cubicBezTo>
                <a:cubicBezTo>
                  <a:pt x="80" y="232"/>
                  <a:pt x="256" y="456"/>
                  <a:pt x="240" y="576"/>
                </a:cubicBezTo>
                <a:cubicBezTo>
                  <a:pt x="224" y="696"/>
                  <a:pt x="40" y="816"/>
                  <a:pt x="0" y="864"/>
                </a:cubicBezTo>
              </a:path>
            </a:pathLst>
          </a:custGeom>
          <a:noFill/>
          <a:ln w="381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59040" y="1509840"/>
            <a:ext cx="1266840" cy="459720"/>
          </a:xfrm>
          <a:noFill/>
          <a:ln w="22320">
            <a:solidFill>
              <a:srgbClr val="339933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33"/>
                </a:solidFill>
                <a:latin typeface="Tahom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2440" y="6105600"/>
            <a:ext cx="1085760" cy="459720"/>
          </a:xfrm>
          <a:noFill/>
          <a:ln w="22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8120" y="5496120"/>
            <a:ext cx="1193760" cy="459720"/>
          </a:xfrm>
          <a:noFill/>
          <a:ln w="22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tast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8000" y="3438720"/>
            <a:ext cx="1704240" cy="459720"/>
          </a:xfrm>
          <a:noFill/>
          <a:ln w="22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acc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20" y="4124520"/>
            <a:ext cx="835560" cy="459720"/>
          </a:xfrm>
          <a:noFill/>
          <a:ln w="22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4038480"/>
            <a:ext cx="152280" cy="152640"/>
          </a:xfrm>
          <a:prstGeom prst="ellipse">
            <a:avLst/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40" y="2306520"/>
            <a:ext cx="1661760" cy="825480"/>
          </a:xfrm>
          <a:noFill/>
          <a:ln w="22320">
            <a:solidFill>
              <a:srgbClr val="0033cc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floppy disk</a:t>
            </a:r>
            <a:br>
              <a:rPr sz="2400"/>
            </a:b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75240" y="2295720"/>
            <a:ext cx="1591560" cy="459720"/>
          </a:xfrm>
          <a:noFill/>
          <a:ln w="22320">
            <a:solidFill>
              <a:srgbClr val="0033cc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ahoma"/>
              </a:rPr>
              <a:t>disco fi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6640" y="3210120"/>
            <a:ext cx="1556640" cy="459720"/>
          </a:xfrm>
          <a:noFill/>
          <a:ln w="2232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ahoma"/>
              </a:rPr>
              <a:t>lettore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505320"/>
            <a:ext cx="457200" cy="990360"/>
            <a:chOff x="2438280" y="3505320"/>
            <a:chExt cx="457200" cy="990360"/>
          </a:xfrm>
        </p:grpSpPr>
        <p:sp>
          <p:nvSpPr>
            <p:cNvPr id="129" name=""/>
            <p:cNvSpPr/>
            <p:nvPr/>
          </p:nvSpPr>
          <p:spPr>
            <a:xfrm>
              <a:off x="2438280" y="3505320"/>
              <a:ext cx="457200" cy="9903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360"/>
                <a:gd name="textAreaBottom" fmla="*/ 968040 h 990360"/>
              </a:gdLst>
              <a:ahLst/>
              <a:rect l="textAreaLeft" t="textAreaTop" r="textAreaRight" b="textAreaBottom"/>
              <a:pathLst>
                <a:path w="21600" h="46769">
                  <a:moveTo>
                    <a:pt x="3600" y="0"/>
                  </a:moveTo>
                  <a:arcTo wR="3600" hR="3600" stAng="16200000" swAng="-5400000"/>
                  <a:lnTo>
                    <a:pt x="0" y="43169"/>
                  </a:lnTo>
                  <a:arcTo wR="3600" hR="3600" stAng="10800000" swAng="-5400000"/>
                  <a:lnTo>
                    <a:pt x="18000" y="467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4343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3581280"/>
              <a:ext cx="304560" cy="6858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685800"/>
                <a:gd name="textAreaBottom" fmla="*/ 671040 h 685800"/>
              </a:gdLst>
              <a:ahLst/>
              <a:rect l="textAreaLeft" t="textAreaTop" r="textAreaRight" b="textAreaBottom"/>
              <a:pathLst>
                <a:path w="21600" h="48606">
                  <a:moveTo>
                    <a:pt x="3600" y="0"/>
                  </a:moveTo>
                  <a:arcTo wR="3600" hR="3600" stAng="16200000" swAng="-5400000"/>
                  <a:lnTo>
                    <a:pt x="0" y="45006"/>
                  </a:lnTo>
                  <a:arcTo wR="3600" hR="3600" stAng="10800000" swAng="-5400000"/>
                  <a:lnTo>
                    <a:pt x="18000" y="48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172200" y="3505320"/>
            <a:ext cx="457200" cy="990360"/>
            <a:chOff x="6172200" y="3505320"/>
            <a:chExt cx="457200" cy="990360"/>
          </a:xfrm>
        </p:grpSpPr>
        <p:sp>
          <p:nvSpPr>
            <p:cNvPr id="133" name=""/>
            <p:cNvSpPr/>
            <p:nvPr/>
          </p:nvSpPr>
          <p:spPr>
            <a:xfrm>
              <a:off x="6172200" y="3505320"/>
              <a:ext cx="457200" cy="9903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360"/>
                <a:gd name="textAreaBottom" fmla="*/ 968040 h 990360"/>
              </a:gdLst>
              <a:ahLst/>
              <a:rect l="textAreaLeft" t="textAreaTop" r="textAreaRight" b="textAreaBottom"/>
              <a:pathLst>
                <a:path w="21600" h="46769">
                  <a:moveTo>
                    <a:pt x="3600" y="0"/>
                  </a:moveTo>
                  <a:arcTo wR="3600" hR="3600" stAng="16200000" swAng="-5400000"/>
                  <a:lnTo>
                    <a:pt x="0" y="43169"/>
                  </a:lnTo>
                  <a:arcTo wR="3600" hR="3600" stAng="10800000" swAng="-5400000"/>
                  <a:lnTo>
                    <a:pt x="18000" y="467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520" y="4343400"/>
              <a:ext cx="7632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3581280"/>
              <a:ext cx="304920" cy="6858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685800"/>
                <a:gd name="textAreaBottom" fmla="*/ 671040 h 685800"/>
              </a:gdLst>
              <a:ahLst/>
              <a:rect l="textAreaLeft" t="textAreaTop" r="textAreaRight" b="textAreaBottom"/>
              <a:pathLst>
                <a:path w="21600" h="48549">
                  <a:moveTo>
                    <a:pt x="3600" y="0"/>
                  </a:moveTo>
                  <a:arcTo wR="3600" hR="3600" stAng="16200000" swAng="-5400000"/>
                  <a:lnTo>
                    <a:pt x="0" y="44949"/>
                  </a:lnTo>
                  <a:arcTo wR="3600" hR="3600" stAng="10800000" swAng="-5400000"/>
                  <a:lnTo>
                    <a:pt x="18000" y="48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2057400" y="6095880"/>
            <a:ext cx="5029200" cy="457200"/>
          </a:xfrm>
          <a:custGeom>
            <a:avLst/>
            <a:gdLst>
              <a:gd name="textAreaLeft" fmla="*/ 466560 w 5029200"/>
              <a:gd name="textAreaRight" fmla="*/ 4562640 w 5029200"/>
              <a:gd name="textAreaTop" fmla="*/ 42120 h 457200"/>
              <a:gd name="textAreaBottom" fmla="*/ 415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43" y="21600"/>
                </a:lnTo>
                <a:lnTo>
                  <a:pt x="457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334120"/>
            <a:ext cx="228600" cy="228600"/>
          </a:xfrm>
          <a:prstGeom prst="ellipse">
            <a:avLst/>
          </a:prstGeom>
          <a:solidFill>
            <a:srgbClr val="cc99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381240" cy="3808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905120"/>
            <a:ext cx="2971800" cy="2209680"/>
            <a:chOff x="3048120" y="1905120"/>
            <a:chExt cx="2971800" cy="2209680"/>
          </a:xfrm>
        </p:grpSpPr>
        <p:sp>
          <p:nvSpPr>
            <p:cNvPr id="140" name=""/>
            <p:cNvSpPr/>
            <p:nvPr/>
          </p:nvSpPr>
          <p:spPr>
            <a:xfrm>
              <a:off x="3048120" y="1905120"/>
              <a:ext cx="2971800" cy="22096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057400"/>
              <a:ext cx="2666880" cy="1828800"/>
            </a:xfrm>
            <a:prstGeom prst="rect">
              <a:avLst/>
            </a:prstGeom>
            <a:solidFill>
              <a:srgbClr val="33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ahoma"/>
                </a:rPr>
                <a:t>C:\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kde" descr=""/>
            <p:cNvPicPr/>
            <p:nvPr/>
          </p:nvPicPr>
          <p:blipFill>
            <a:blip r:embed="rId2"/>
            <a:stretch/>
          </p:blipFill>
          <p:spPr>
            <a:xfrm>
              <a:off x="3200400" y="2057400"/>
              <a:ext cx="266688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2611440" y="5410080"/>
            <a:ext cx="74520" cy="7632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Componenti - Esterno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interrutto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per accendere il PC; una spia luminosa ne indica l’accen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rese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per il riavvio del PC nel caso rimanga bloccato e non risponda ai coma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drive per floppy dis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per la lettura/scrittura di dati e programmi memorizzati su floppy disk; una spia luminosa ne indica il funz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lettore C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per leggere dati e/o programmi da CD-ROM; varie velocità (base 1X = 150 Kbit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ahoma"/>
              </a:rPr>
              <a:t>cas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diffusori acustici per la multimedialità; occorre una scheda audio all’interno dell’unità cent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9:12:31Z</dcterms:created>
  <dc:creator>N. Fanizzi</dc:creator>
  <dc:description/>
  <dc:language>en-US</dc:language>
  <cp:lastModifiedBy>Duncan Idaho</cp:lastModifiedBy>
  <cp:lastPrinted>2001-05-10T12:46:24Z</cp:lastPrinted>
  <dcterms:modified xsi:type="dcterms:W3CDTF">2003-10-10T15:32:08Z</dcterms:modified>
  <cp:revision>11</cp:revision>
  <dc:subject>unità #1</dc:subject>
  <dc:title>Unità#1 Il Personal Computer</dc:title>
</cp:coreProperties>
</file>